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17D-89C3-437E-BC06-A55FE4A09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D45E-58BC-42DF-A06F-12360D5C0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731-B90D-4C06-B4ED-8C40BAC0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356-B66F-4FE1-9BDF-714C1E6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E6D-CB2E-42BD-9BAB-36AA3BD8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3C2-BF4F-427F-91EB-AA0FC49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5ED-3F2A-4C9C-AA67-C7DCA3F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580-70DF-438A-9443-400B3307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632-02E0-422D-BB3A-13EA5E8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5CB-5D85-4AD3-A243-80652D7C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BAA-BE7C-483B-AB71-DD42C25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242-9FDB-42EA-BCE9-DA725A0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2CC-39A3-40EA-BC29-E578D83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84D-D0D3-407C-8873-12D8A17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6DD-1467-4DDB-8141-4D1C52062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Literary Analysis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8 to define social context, dialogue, &amp; dial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eading Strategy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8 to answer this question- </a:t>
                      </a:r>
                      <a:r>
                        <a:rPr b="0" i="1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should you note when analyzing the effect of the author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’s purpose on mean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Zora Neale Hurston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1891-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9 &amp; write Hurston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d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Based on what you’ve learned about Hurston, the title and the pictures make a prediction about this autobiograp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7:30:35Z</dcterms:created>
  <dc:creator>nvasquez</dc:creator>
  <dc:description/>
  <dc:language>en-US</dc:language>
  <cp:lastModifiedBy>nvasquez</cp:lastModifiedBy>
  <dcterms:modified xsi:type="dcterms:W3CDTF">2010-11-07T17:38:40Z</dcterms:modified>
  <cp:revision>2</cp:revision>
  <dc:subject/>
  <dc:title>Use a piece of blank paper to create your own “Piece of the Pie” foldable.</dc:title>
</cp:coreProperties>
</file>